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applause.wav" ContentType="audio/x-wav"/>
  <Override PartName="/ppt/media/arrow.wav" ContentType="audio/x-wav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AE39-3412-4F8C-ACAB-9904D2688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5423-44D6-43D9-84BE-F5A42E73B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6525-E5F4-43D4-BF3C-88273E889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E312-A8DC-486E-AFE9-869CFB853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4DDB8-88E9-4B96-93EE-7C3DB5DEC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07A4F-BBF8-4B2A-BB10-5D678113A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8426D-B068-4F7D-BFE0-1E42690B6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E9516-4A18-4720-9C24-CC45BD16D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55A42-972C-4098-81F7-83FBB1BDF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A93A1-01D0-4BF0-A0E5-294A0D46A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7DF7F-7F4A-4623-BF92-2ED3F345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993C-8EC3-41DD-8C01-09EF33563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1D668-4EAA-498A-A847-4E239832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75CA9-BEFD-4D43-8145-3949B49B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AF6B4-C705-4864-9B49-639F34C6B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1EDCA-B375-4411-9289-E57DEFB70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8F84B-C71F-4FD9-BD73-403522419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975F-7D3E-4C4C-8460-DDBFA9288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B2FD-1F26-41C9-9441-F447CAB8F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B737-F762-4DB1-AFD7-B5B279EE8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0A2C-0E85-4649-B144-0D3CA3E43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2986-0E9E-4357-A8EE-423616E5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28D9-1A1D-443A-BE4B-698B8D7E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7B3C-8A9E-4C8A-AEEC-B657648B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145CC-E384-47DD-9174-5A0FA227CD2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B550B-2FCE-4D8A-8E2B-474D464FA9D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hyperlink" Target="http://www.google.com/imgres?imgurl=http://thumb1.shutterstock.com.edgesuite.net/display_pic_with_logo/80014/80014,1176118759,1/stock-photo-seaport-vladivostok-spring-floating-of-ice-moored-yachts-war-ships-3040512.jpg&amp;imgrefurl=http://www.shutterstock.com/pic-3040512/stock-photo-seaport-vladivostok-spring-floating-of-ice-moored-yachts-war-ships.html&amp;usg=__BK5kNg4igJFFtXCaKvMkhgIY9hM=&amp;h=358&amp;w=450&amp;sz=56&amp;hl=en&amp;start=10&amp;zoom=0&amp;um=1&amp;itbs=1&amp;tbnid=EDV8k4gRWES94M:&amp;tbnh=101&amp;tbnw=127&amp;prev=/images%3Fq%3Dice%2Bin%2Brussian%2Bseaports%26um%3D1%26hl%3Den%26sa%3DN%26rls%3Dcom.microsoft:en-us:IE-SearchBox%26rlz%3D1I7ADSA_en%26tbs%3Disch:1" TargetMode="External"/><Relationship Id="rId6" Type="http://schemas.openxmlformats.org/officeDocument/2006/relationships/image" Target="../media/image10.jpeg"/><Relationship Id="rId7" Type="http://schemas.openxmlformats.org/officeDocument/2006/relationships/audio" Target="../media/arrow.wav"/><Relationship Id="rId8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Railways_in_russia" TargetMode="External"/><Relationship Id="rId2" Type="http://schemas.openxmlformats.org/officeDocument/2006/relationships/hyperlink" Target="http://en.wikipedia.org/wiki/Railways_in_russia" TargetMode="External"/><Relationship Id="rId3" Type="http://schemas.openxmlformats.org/officeDocument/2006/relationships/hyperlink" Target="http://en.wikipedia.org/Russian_Railways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3366"/>
                </a:solidFill>
                <a:latin typeface="Century Gothic"/>
              </a:rPr>
              <a:t>The Movement is Always Tougher in Russia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724280" y="2895120"/>
            <a:ext cx="4013280" cy="18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Calibri"/>
              </a:rPr>
              <a:t>Ethan Sit and Quynh Vu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086600" y="2666880"/>
            <a:ext cx="1193760" cy="14194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2" name="applau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5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5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5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5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alibri"/>
              </a:rPr>
              <a:t>Before We Start…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Movement in Russia gets people in Russia from place to place. It influences trade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which brings needed goods to the Russian people. However, certain problems like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its size, climate, and physical features have an impact on its movement, and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therefore its economy. This presentation covers the problems with Russian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transport and how the Russian people solved these problems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4648320"/>
            <a:ext cx="1523880" cy="19810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514600" y="4400640"/>
            <a:ext cx="4002120" cy="2457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029200" y="1066680"/>
            <a:ext cx="82404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alibri"/>
              </a:rPr>
              <a:t>Table of Conte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I- Waterways In Russia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II- Seaports In Russia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III- Railways In Russia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IV- Highways and Roads in Russia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V- Air Transpor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VI- Bibliograph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alibri"/>
              </a:rPr>
              <a:t>Waterways In Russ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Waterways in Russia allow boats to travel to different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places in Russia. For example, there are rivers like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the Volga River, Ob River, and the Lena River. Sea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and oceans that border Russia include the Baltic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Sea, Sea of Okhotsk, and the Bering Sea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760640" y="2361960"/>
            <a:ext cx="3770280" cy="17859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760640" y="4300200"/>
            <a:ext cx="3770280" cy="1785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562720" y="990720"/>
            <a:ext cx="1333440" cy="9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alibri"/>
              </a:rPr>
              <a:t>Seaports In Russ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There are seven seaports in Russia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-Kaliningrad-St. Petersburg-Okhotsk- Murmansk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-Vladivostok-Astrakhan-Petropavlovsk Kamchatsky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A problem with these ports is that they are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spaced far apart from each other. Ships have to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travel another 200 miles to get the most inland part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of Russia, where Kaliningrad is located. Then,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shippers have the choice to travel another 500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miles to the port of St. Petersburg. This consume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lots of time,</a:t>
            </a: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fuel, and therefore money. However,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taxes have been cut for foreign  goods coming into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Kaliningrad, saving money, and possibly increasing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trade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Another problem happening in these ports i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that ports have ice or frost at some point of the year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In fact, there is permafrost, soil that stays below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freezing point, or  zero degrees Celsius, fro two or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more years. Permafrost delays mining, an important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part of Russia’s economy. Ice in the seaports prevent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the movement of boats, so  a special purpose boat or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ship called a icebreaker is used to separate the ice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648320" y="2514600"/>
            <a:ext cx="1523880" cy="1981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648320" y="4572000"/>
            <a:ext cx="4114800" cy="2133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6324480" y="2666880"/>
            <a:ext cx="2438640" cy="1781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5181480" y="1066680"/>
            <a:ext cx="1143000" cy="762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324480" y="2666880"/>
            <a:ext cx="2438640" cy="17528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7" name="arrow.wav"/>
      </p:stSnd>
    </p:sndAc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alibri"/>
              </a:rPr>
              <a:t>Railways in Russ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Railways in Russia account for  2.5 % percent of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Russia’s GDP, or Gross Domestic Product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оссийские железные дороги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, or Russian Railway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is mostly state-run. Russian Railways is one of the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biggest railway companies in the world, with 0.95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million employees, a monopoly within it. In fact, the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total length of the line is 85,000 kilometers( 53,130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miles), only surpassed by the United States railway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system. In 2007, 1.3 billion passengers and 1.3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billion tons of freight went via Russian Railways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In 2007 the company owned 19,700 goods and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passenger locomotives, 24,200 passenger car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(carriages) (2007) and 526,900 freight cars (good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agons) (2007). A further 270,000 freight cars in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Russia are privately owned. </a:t>
            </a: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Some important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railroads include the Trans- Siberian Railroad, the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Kaliningrad Railway, and The Northern Railway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There are industrial railways aside from the common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carrier railways (railways that passenger train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follow). Industrial railways are about half the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length of common carrier railroads as of 2008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761000" y="3164040"/>
            <a:ext cx="4154400" cy="25509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RussianRailways.png"/>
          <p:cNvPicPr/>
          <p:nvPr/>
        </p:nvPicPr>
        <p:blipFill>
          <a:blip r:embed="rId2"/>
          <a:stretch/>
        </p:blipFill>
        <p:spPr>
          <a:xfrm>
            <a:off x="5181480" y="1219320"/>
            <a:ext cx="2381400" cy="600120"/>
          </a:xfrm>
          <a:prstGeom prst="rect">
            <a:avLst/>
          </a:prstGeom>
          <a:ln w="0">
            <a:noFill/>
          </a:ln>
        </p:spPr>
      </p:pic>
    </p:spTree>
  </p:cSld>
  <p:transition>
    <p:cover dir="u"/>
    <p:sndAc>
      <p:stSnd>
        <p:snd r:embed="rId3" name="arrow.wav"/>
      </p:stSnd>
    </p:sndAc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alibri"/>
              </a:rPr>
              <a:t>Pipelines in Russ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ibliograph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Boehm, Richard G., Armstrong, David G., Hunkins, Francais P., et all. </a:t>
            </a:r>
            <a:r>
              <a:rPr b="0" lang="en-US" sz="1400" spc="-1" strike="noStrike" u="sng">
                <a:solidFill>
                  <a:srgbClr val="003366"/>
                </a:solidFill>
                <a:uFillTx/>
                <a:latin typeface="Calibri"/>
              </a:rPr>
              <a:t>Geography:The World and Its People.</a:t>
            </a: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 Columbus, Ohio: Glencoe, McGraw Hill, 2002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66"/>
                </a:solidFill>
                <a:uFillTx/>
                <a:latin typeface="Calibri"/>
              </a:rPr>
              <a:t>Wikipedia; List of Railway Lines in Russia.</a:t>
            </a: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 23 October 2010. 15 November 2010. &lt;</a:t>
            </a:r>
            <a:r>
              <a:rPr b="0" lang="en-US" sz="1400" spc="-1" strike="noStrike" u="sng">
                <a:solidFill>
                  <a:srgbClr val="0000cc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00cc"/>
                </a:solidFill>
                <a:uFillTx/>
                <a:latin typeface="Calibri"/>
                <a:hlinkClick r:id="rId2"/>
              </a:rPr>
              <a:t>en.wikipedia.org/wiki/Railways_in_russia</a:t>
            </a: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.&gt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66"/>
                </a:solidFill>
                <a:uFillTx/>
                <a:latin typeface="Calibri"/>
              </a:rPr>
              <a:t>Wikipedia: Russian Railways. </a:t>
            </a: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5 December 2010. 15 December 2010. </a:t>
            </a:r>
            <a:r>
              <a:rPr b="0" lang="en-US" sz="1400" spc="-1" strike="noStrike" u="sng">
                <a:solidFill>
                  <a:srgbClr val="0000cc"/>
                </a:solidFill>
                <a:uFillTx/>
                <a:latin typeface="Calibri"/>
                <a:hlinkClick r:id="rId3"/>
              </a:rPr>
              <a:t>http://en.wikipedia.org/Russian_Railway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66"/>
                </a:solidFill>
                <a:uFillTx/>
                <a:latin typeface="Calibri"/>
              </a:rPr>
              <a:t>Wikipedia:Rail transport in Russia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66"/>
                </a:solidFill>
                <a:uFillTx/>
                <a:latin typeface="Calibri"/>
              </a:rPr>
              <a:t>Wikipedia: History of Rail Transport in Russia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66"/>
                </a:solidFill>
                <a:uFillTx/>
                <a:latin typeface="Calibri"/>
              </a:rPr>
              <a:t>CIA: The World Factbook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092960" y="3455280"/>
            <a:ext cx="7566840" cy="24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006666"/>
                </a:solidFill>
                <a:latin typeface="Rage Italic"/>
              </a:rPr>
              <a:t>Thanks For Watching! </a:t>
            </a:r>
            <a:r>
              <a:rPr b="1" i="1" lang="en-US" sz="8800" spc="-1" strike="noStrike">
                <a:solidFill>
                  <a:srgbClr val="006666"/>
                </a:solidFill>
                <a:latin typeface="Wingdings"/>
                <a:ea typeface="Wingdings"/>
              </a:rPr>
              <a:t>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3:44:14Z</dcterms:created>
  <dc:creator> </dc:creator>
  <dc:description/>
  <dc:language>en-US</dc:language>
  <cp:lastModifiedBy>Han</cp:lastModifiedBy>
  <dcterms:modified xsi:type="dcterms:W3CDTF">2010-12-21T00:02:31Z</dcterms:modified>
  <cp:revision>32</cp:revision>
  <dc:subject/>
  <dc:title> </dc:title>
</cp:coreProperties>
</file>